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A05-84CC-4003-B32D-EA9B8C45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: Tobacco and Pregnancy: Overview of Exposures and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nal-Child Nur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tudy: EXPOSURE TO MARIJUANA DURING PREGNANCY ALTERS NEUROBEHAVIOR IN THE EARLY NEONATAL PERIOD  - Carvalho de Moraes Barros et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tudy: Prenatal Marijuana Exposure and Intelligence Test Performance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274-7082-494B-84C4-73995759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029-DC9D-4975-8690-B2BC677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52D-8197-43B3-B318-DAF996DB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1A4-2B25-4B48-917D-52ED4F6B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01E-9449-48B9-8C5E-9E6BE16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699-D453-498D-BB2C-BD4DD524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233-6915-4BAB-9286-88422EBF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B9C-DAE5-4509-ADAF-3CE79E8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A9D-97FB-4F7C-8A69-7EDF7B5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913-C5FB-4969-9A40-22931A2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FA0-F525-417E-9A66-18CC238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264-7F88-4AE8-9148-C443296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2F37-5A3D-4C74-87E6-590D86D8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obacco and Marijuana on the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 -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birth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infant death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developm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behavio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risk for some types of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juana -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, more study needed, may be related to problems in mot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05:22Z</dcterms:created>
  <dc:creator>KG</dc:creator>
  <dc:description/>
  <dc:language>en-US</dc:language>
  <cp:lastModifiedBy>KG</cp:lastModifiedBy>
  <dcterms:modified xsi:type="dcterms:W3CDTF">2010-04-19T02:14:43Z</dcterms:modified>
  <cp:revision>9</cp:revision>
  <dc:subject/>
  <dc:title>Effects of Tobacco and Marijuana on the child</dc:title>
</cp:coreProperties>
</file>